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WHOOSH.WAV" ContentType="audio/x-wav"/>
  <Override PartName="/ppt/media/CARBRAKE.WAV" ContentType="audio/x-wav"/>
  <Override PartName="/ppt/media/zipdn102.wav" ContentType="audio/x-wav"/>
  <Override PartName="/ppt/media/boinng04.wav" ContentType="audio/x-wav"/>
  <Override PartName="/ppt/media/LASER.WAV" ContentType="audio/x-wav"/>
  <Override PartName="/ppt/media/hzipup01.wav" ContentType="audio/x-wav"/>
  <Override PartName="/ppt/media/elphrg01.wav" ContentType="audio/x-wav"/>
  <Override PartName="/ppt/media/mac.wav" ContentType="audio/x-wav"/>
  <Override PartName="/ppt/media/title.wav" ContentType="audio/x-wav"/>
  <Override PartName="/ppt/media/imrcv.wav" ContentType="audio/x-wav"/>
  <Override PartName="/ppt/media/lzipup01.wav" ContentType="audio/x-wav"/>
  <Override PartName="/ppt/media/bserie06.wav" ContentType="audio/x-wav"/>
  <Override PartName="/ppt/media/APPLAUSE.WAV" ContentType="audio/x-wav"/>
  <Override PartName="/ppt/media/help.wav" ContentType="audio/x-wav"/>
  <Override PartName="/ppt/media/RICOCHET.WAV" ContentType="audio/x-wav"/>
  <Override PartName="/ppt/media/TYPE.WAV" ContentType="audio/x-wav"/>
  <Override PartName="/ppt/media/zapbig0g.wav" ContentType="audio/x-wav"/>
  <Override PartName="/ppt/media/GUNSHOT.WAV" ContentType="audio/x-wav"/>
  <Override PartName="/ppt/media/DoorSlam.wav" ContentType="audio/x-wav"/>
  <Override PartName="/ppt/media/byipee04.wav" ContentType="audio/x-wav"/>
  <Override PartName="/ppt/media/EXPLODE.WAV" ContentType="audio/x-wav"/>
  <Override PartName="/ppt/media/doorbl07.wav" ContentType="audio/x-wav"/>
  <Override PartName="/ppt/media/DOOROPEN.WAV" ContentType="audio/x-wav"/>
  <Override PartName="/ppt/media/DRIVEBY.WAV" ContentType="audio/x-wav"/>
  <Override PartName="/ppt/media/j0097495.wav" ContentType="audio/x-wav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D86F-641A-4661-B601-F0454854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D33F-40E5-4ECC-8042-24F4B148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4E19-B781-4F0A-8395-0869C023A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3CDF-8E7F-46EE-B529-46B6DD9D5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E043-712D-451F-B938-DB7AEB1A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CAE6-7348-4ABF-AD48-735A8161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077A-B4CC-4EA8-B085-972FD087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3DEA-E4CC-4DC9-88BB-ABD27EC1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BA47-C2F4-4C7E-8722-4EB3B814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73A9-CFFA-4CDF-8326-0B8CFFDE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6ACF-75E9-47C1-BB0D-D6674F24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21B9-1197-422E-9B45-C7F48D05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2506-D185-42CE-BC58-437D99219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ac.wav"/><Relationship Id="rId3" Type="http://schemas.openxmlformats.org/officeDocument/2006/relationships/audio" Target="../media/DOOROPEN.WAV"/><Relationship Id="rId4" Type="http://schemas.openxmlformats.org/officeDocument/2006/relationships/audio" Target="../media/DOOROPEN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audio" Target="../media/RICOCHET.WAV"/><Relationship Id="rId8" Type="http://schemas.openxmlformats.org/officeDocument/2006/relationships/audio" Target="../media/RICOCHET.WAV"/><Relationship Id="rId9" Type="http://schemas.openxmlformats.org/officeDocument/2006/relationships/audio" Target="../media/RICOCHET.WAV"/><Relationship Id="rId10" Type="http://schemas.openxmlformats.org/officeDocument/2006/relationships/audio" Target="../media/lzipup01.wav"/><Relationship Id="rId11" Type="http://schemas.openxmlformats.org/officeDocument/2006/relationships/audio" Target="../media/lzipup01.wav"/><Relationship Id="rId12" Type="http://schemas.openxmlformats.org/officeDocument/2006/relationships/audio" Target="../media/lzipup01.wav"/><Relationship Id="rId13" Type="http://schemas.openxmlformats.org/officeDocument/2006/relationships/audio" Target="../media/lzipup01.wav"/><Relationship Id="rId14" Type="http://schemas.openxmlformats.org/officeDocument/2006/relationships/audio" Target="../media/lzipup01.wav"/><Relationship Id="rId15" Type="http://schemas.openxmlformats.org/officeDocument/2006/relationships/audio" Target="../media/lzipup01.wav"/><Relationship Id="rId16" Type="http://schemas.openxmlformats.org/officeDocument/2006/relationships/audio" Target="../media/lzipup01.wav"/><Relationship Id="rId17" Type="http://schemas.openxmlformats.org/officeDocument/2006/relationships/audio" Target="../media/lzipup01.wav"/><Relationship Id="rId18" Type="http://schemas.openxmlformats.org/officeDocument/2006/relationships/audio" Target="../media/DRIVEBY.WAV"/><Relationship Id="rId19" Type="http://schemas.openxmlformats.org/officeDocument/2006/relationships/audio" Target="../media/DRIVEBY.WAV"/><Relationship Id="rId20" Type="http://schemas.openxmlformats.org/officeDocument/2006/relationships/audio" Target="../media/lzipup01.wav"/><Relationship Id="rId21" Type="http://schemas.openxmlformats.org/officeDocument/2006/relationships/audio" Target="../media/DRIVEBY.WAV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lphrg01.wav"/><Relationship Id="rId3" Type="http://schemas.openxmlformats.org/officeDocument/2006/relationships/audio" Target="../media/elphrg01.wav"/><Relationship Id="rId4" Type="http://schemas.openxmlformats.org/officeDocument/2006/relationships/audio" Target="../media/elphrg01.wav"/><Relationship Id="rId5" Type="http://schemas.openxmlformats.org/officeDocument/2006/relationships/audio" Target="../media/hzipup01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hzipup01.wav"/><Relationship Id="rId10" Type="http://schemas.openxmlformats.org/officeDocument/2006/relationships/audio" Target="../media/boinng04.wav"/><Relationship Id="rId11" Type="http://schemas.openxmlformats.org/officeDocument/2006/relationships/audio" Target="../media/zipdn102.wav"/><Relationship Id="rId12" Type="http://schemas.openxmlformats.org/officeDocument/2006/relationships/audio" Target="../media/zipdn102.wav"/><Relationship Id="rId13" Type="http://schemas.openxmlformats.org/officeDocument/2006/relationships/audio" Target="../media/zipdn102.wav"/><Relationship Id="rId14" Type="http://schemas.openxmlformats.org/officeDocument/2006/relationships/audio" Target="../media/zipdn102.wav"/><Relationship Id="rId15" Type="http://schemas.openxmlformats.org/officeDocument/2006/relationships/audio" Target="../media/zipdn102.wav"/><Relationship Id="rId16" Type="http://schemas.openxmlformats.org/officeDocument/2006/relationships/audio" Target="../media/zipdn102.wav"/><Relationship Id="rId17" Type="http://schemas.openxmlformats.org/officeDocument/2006/relationships/audio" Target="../media/CARBRAKE.WAV"/><Relationship Id="rId18" Type="http://schemas.openxmlformats.org/officeDocument/2006/relationships/audio" Target="../media/CARBRAKE.WAV"/><Relationship Id="rId19" Type="http://schemas.openxmlformats.org/officeDocument/2006/relationships/audio" Target="../media/WHOOSH.WAV"/><Relationship Id="rId20" Type="http://schemas.openxmlformats.org/officeDocument/2006/relationships/audio" Target="../media/imrcv.wav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j0097495.wav"/><Relationship Id="rId6" Type="http://schemas.openxmlformats.org/officeDocument/2006/relationships/audio" Target="../media/doorbl07.wav"/><Relationship Id="rId7" Type="http://schemas.openxmlformats.org/officeDocument/2006/relationships/audio" Target="../media/doorbl07.wav"/><Relationship Id="rId8" Type="http://schemas.openxmlformats.org/officeDocument/2006/relationships/audio" Target="../media/doorbl07.wav"/><Relationship Id="rId9" Type="http://schemas.openxmlformats.org/officeDocument/2006/relationships/audio" Target="../media/doorbl07.wav"/><Relationship Id="rId10" Type="http://schemas.openxmlformats.org/officeDocument/2006/relationships/audio" Target="../media/doorbl07.wav"/><Relationship Id="rId11" Type="http://schemas.openxmlformats.org/officeDocument/2006/relationships/audio" Target="../media/doorbl07.wav"/><Relationship Id="rId12" Type="http://schemas.openxmlformats.org/officeDocument/2006/relationships/audio" Target="../media/doorbl07.wav"/><Relationship Id="rId13" Type="http://schemas.openxmlformats.org/officeDocument/2006/relationships/audio" Target="../media/doorbl07.wav"/><Relationship Id="rId14" Type="http://schemas.openxmlformats.org/officeDocument/2006/relationships/audio" Target="../media/GUNSHOT.WAV"/><Relationship Id="rId15" Type="http://schemas.openxmlformats.org/officeDocument/2006/relationships/audio" Target="../media/RICOCHET.WAV"/><Relationship Id="rId16" Type="http://schemas.openxmlformats.org/officeDocument/2006/relationships/audio" Target="../media/GUNSHOT.WAV"/><Relationship Id="rId17" Type="http://schemas.openxmlformats.org/officeDocument/2006/relationships/audio" Target="../media/RICOCHET.WAV"/><Relationship Id="rId18" Type="http://schemas.openxmlformats.org/officeDocument/2006/relationships/audio" Target="../media/GUNSHOT.WAV"/><Relationship Id="rId19" Type="http://schemas.openxmlformats.org/officeDocument/2006/relationships/audio" Target="../media/RICOCHET.WAV"/><Relationship Id="rId20" Type="http://schemas.openxmlformats.org/officeDocument/2006/relationships/audio" Target="../media/GUNSHOT.WAV"/><Relationship Id="rId21" Type="http://schemas.openxmlformats.org/officeDocument/2006/relationships/audio" Target="../media/RICOCHET.WAV"/><Relationship Id="rId22" Type="http://schemas.openxmlformats.org/officeDocument/2006/relationships/audio" Target="../media/elphrg01.wav"/><Relationship Id="rId23" Type="http://schemas.openxmlformats.org/officeDocument/2006/relationships/audio" Target="../media/EXPLODE.WAV"/><Relationship Id="rId2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zipup01.wav"/><Relationship Id="rId3" Type="http://schemas.openxmlformats.org/officeDocument/2006/relationships/audio" Target="../media/boinng04.wav"/><Relationship Id="rId4" Type="http://schemas.openxmlformats.org/officeDocument/2006/relationships/audio" Target="../media/hzipup01.wav"/><Relationship Id="rId5" Type="http://schemas.openxmlformats.org/officeDocument/2006/relationships/audio" Target="../media/boinng04.wav"/><Relationship Id="rId6" Type="http://schemas.openxmlformats.org/officeDocument/2006/relationships/audio" Target="../media/lzipup01.wav"/><Relationship Id="rId7" Type="http://schemas.openxmlformats.org/officeDocument/2006/relationships/audio" Target="../media/zipdn102.wav"/><Relationship Id="rId8" Type="http://schemas.openxmlformats.org/officeDocument/2006/relationships/audio" Target="../media/lzipup01.wav"/><Relationship Id="rId9" Type="http://schemas.openxmlformats.org/officeDocument/2006/relationships/audio" Target="../media/DoorSlam.wav"/><Relationship Id="rId10" Type="http://schemas.openxmlformats.org/officeDocument/2006/relationships/audio" Target="../media/DoorSlam.wav"/><Relationship Id="rId11" Type="http://schemas.openxmlformats.org/officeDocument/2006/relationships/audio" Target="../media/DoorSlam.wav"/><Relationship Id="rId12" Type="http://schemas.openxmlformats.org/officeDocument/2006/relationships/audio" Target="../media/DoorSlam.wav"/><Relationship Id="rId13" Type="http://schemas.openxmlformats.org/officeDocument/2006/relationships/audio" Target="../media/DRIVEBY.WAV"/><Relationship Id="rId14" Type="http://schemas.openxmlformats.org/officeDocument/2006/relationships/audio" Target="../media/zipdn102.wav"/><Relationship Id="rId15" Type="http://schemas.openxmlformats.org/officeDocument/2006/relationships/audio" Target="../media/zipdn102.wav"/><Relationship Id="rId16" Type="http://schemas.openxmlformats.org/officeDocument/2006/relationships/audio" Target="../media/zipdn102.wav"/><Relationship Id="rId17" Type="http://schemas.openxmlformats.org/officeDocument/2006/relationships/audio" Target="../media/title.wav"/><Relationship Id="rId18" Type="http://schemas.openxmlformats.org/officeDocument/2006/relationships/audio" Target="../media/doorbl07.wav"/><Relationship Id="rId19" Type="http://schemas.openxmlformats.org/officeDocument/2006/relationships/audio" Target="../media/doorbl07.wav"/><Relationship Id="rId20" Type="http://schemas.openxmlformats.org/officeDocument/2006/relationships/audio" Target="../media/doorbl07.wav"/><Relationship Id="rId21" Type="http://schemas.openxmlformats.org/officeDocument/2006/relationships/audio" Target="../media/zipdn102.wav"/><Relationship Id="rId22" Type="http://schemas.openxmlformats.org/officeDocument/2006/relationships/audio" Target="../media/zapbig0g.wav"/><Relationship Id="rId23" Type="http://schemas.openxmlformats.org/officeDocument/2006/relationships/audio" Target="../media/zapbig0g.wav"/><Relationship Id="rId24" Type="http://schemas.openxmlformats.org/officeDocument/2006/relationships/audio" Target="../media/help.wav"/><Relationship Id="rId25" Type="http://schemas.openxmlformats.org/officeDocument/2006/relationships/audio" Target="../media/byipee04.wav"/><Relationship Id="rId2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zipup01.wav"/><Relationship Id="rId3" Type="http://schemas.openxmlformats.org/officeDocument/2006/relationships/audio" Target="../media/elphrg01.wav"/><Relationship Id="rId4" Type="http://schemas.openxmlformats.org/officeDocument/2006/relationships/audio" Target="../media/zipdn102.wav"/><Relationship Id="rId5" Type="http://schemas.openxmlformats.org/officeDocument/2006/relationships/audio" Target="../media/zipdn102.wav"/><Relationship Id="rId6" Type="http://schemas.openxmlformats.org/officeDocument/2006/relationships/audio" Target="../media/zipdn102.wav"/><Relationship Id="rId7" Type="http://schemas.openxmlformats.org/officeDocument/2006/relationships/audio" Target="../media/zipdn102.wav"/><Relationship Id="rId8" Type="http://schemas.openxmlformats.org/officeDocument/2006/relationships/audio" Target="../media/DRIVEBY.WAV"/><Relationship Id="rId9" Type="http://schemas.openxmlformats.org/officeDocument/2006/relationships/audio" Target="../media/hzipup01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DRIVEBY.WAV"/><Relationship Id="rId15" Type="http://schemas.openxmlformats.org/officeDocument/2006/relationships/audio" Target="../media/boinng04.wav"/><Relationship Id="rId16" Type="http://schemas.openxmlformats.org/officeDocument/2006/relationships/audio" Target="../media/mac.wav"/><Relationship Id="rId17" Type="http://schemas.openxmlformats.org/officeDocument/2006/relationships/audio" Target="../media/mac.wav"/><Relationship Id="rId18" Type="http://schemas.openxmlformats.org/officeDocument/2006/relationships/audio" Target="../media/mac.wav"/><Relationship Id="rId19" Type="http://schemas.openxmlformats.org/officeDocument/2006/relationships/audio" Target="../media/DRIVEBY.WAV"/><Relationship Id="rId20" Type="http://schemas.openxmlformats.org/officeDocument/2006/relationships/audio" Target="../media/title.wav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95280" y="228600"/>
            <a:ext cx="6772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NOTES  OVER  RADICALS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42" name=""/>
          <p:cNvSpPr txBox="1"/>
          <p:nvPr/>
        </p:nvSpPr>
        <p:spPr>
          <a:xfrm rot="5400000">
            <a:off x="-2504880" y="3190680"/>
            <a:ext cx="6086520" cy="619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"/>
              </a:rPr>
              <a:t>SIMPLIFY</a:t>
            </a:r>
            <a:endParaRPr b="1" i="1" lang="en-US" sz="4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"/>
              <a:ea typeface="com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447920" y="990720"/>
                <a:ext cx="373356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057400" y="2057400"/>
                <a:ext cx="498636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191120" y="2209680"/>
                <a:ext cx="129528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410080" y="2209680"/>
                <a:ext cx="12765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 rot="10800000">
                <a:off x="1981080" y="3276720"/>
                <a:ext cx="6256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438280" y="3505320"/>
                <a:ext cx="6098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971800" y="3200400"/>
                <a:ext cx="88884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657600" y="3124080"/>
                <a:ext cx="274320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800600" y="3429000"/>
                <a:ext cx="9907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447920" y="4343400"/>
                <a:ext cx="2305080" cy="21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581280" y="4419720"/>
                <a:ext cx="10670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581280" y="5486400"/>
                <a:ext cx="10670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3733920" y="54864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648320" y="5200560"/>
                <a:ext cx="6858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105520" y="4343400"/>
                <a:ext cx="160020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638680" y="5562720"/>
                <a:ext cx="54468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5410080" y="548640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6553080" y="5181480"/>
                <a:ext cx="6858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238880" y="4724280"/>
                <a:ext cx="397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7467480" y="4495680"/>
                <a:ext cx="1028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7391520" y="54864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7696080" y="5562720"/>
                <a:ext cx="54468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a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OOR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OOR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295280" y="228600"/>
            <a:ext cx="6772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NOTES  OVER  RADICALS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66" name=""/>
          <p:cNvSpPr txBox="1"/>
          <p:nvPr/>
        </p:nvSpPr>
        <p:spPr>
          <a:xfrm rot="5400000">
            <a:off x="-2504880" y="3190680"/>
            <a:ext cx="6086520" cy="619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"/>
              </a:rPr>
              <a:t>SIMPLIFY</a:t>
            </a:r>
            <a:endParaRPr b="1" i="1" lang="en-US" sz="4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"/>
              <a:ea typeface="com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295280" y="1143000"/>
                <a:ext cx="2724120" cy="17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962520" y="1447920"/>
                <a:ext cx="210816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962520" y="1143000"/>
                <a:ext cx="201924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962520" y="1981080"/>
                <a:ext cx="201924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828800" y="3276720"/>
                <a:ext cx="2743200" cy="17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752480" y="3276720"/>
                <a:ext cx="121932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819520" y="3200400"/>
                <a:ext cx="20239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905120" y="4114800"/>
                <a:ext cx="9144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743200" y="4038480"/>
                <a:ext cx="175248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181480" y="3276720"/>
                <a:ext cx="2743200" cy="17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029200" y="3276720"/>
                <a:ext cx="121932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6095880" y="3200400"/>
                <a:ext cx="176400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5410080" y="4114800"/>
                <a:ext cx="9144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324480" y="4114800"/>
                <a:ext cx="12956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572000" y="3886200"/>
                <a:ext cx="5968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828800" y="5138640"/>
                <a:ext cx="274320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828800" y="5062680"/>
                <a:ext cx="121932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743200" y="5900760"/>
                <a:ext cx="9144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962520" y="2819520"/>
                <a:ext cx="107316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895480" y="5029200"/>
                <a:ext cx="176400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cover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lphrg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lphrg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lphrg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imrcv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295280" y="228600"/>
            <a:ext cx="6772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NOTES  OVER  RADICALS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88" name=""/>
          <p:cNvSpPr txBox="1"/>
          <p:nvPr/>
        </p:nvSpPr>
        <p:spPr>
          <a:xfrm rot="5400000">
            <a:off x="-2504880" y="3190680"/>
            <a:ext cx="6086520" cy="619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"/>
              </a:rPr>
              <a:t>SIMPLIFY</a:t>
            </a:r>
            <a:endParaRPr b="1" i="1" lang="en-US" sz="4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"/>
              <a:ea typeface="com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081080" y="1295280"/>
                <a:ext cx="596736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rad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</m:ra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971800" y="1409760"/>
                <a:ext cx="838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3200400" y="22096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971800" y="2209680"/>
                <a:ext cx="8380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114800" y="2362320"/>
                <a:ext cx="11430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752480" y="2971800"/>
                <a:ext cx="147960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752480" y="3809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209680" y="3809880"/>
                <a:ext cx="5367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124080" y="3276720"/>
                <a:ext cx="17337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724280" y="3657600"/>
                <a:ext cx="5968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334120" y="2895480"/>
                <a:ext cx="147960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5410080" y="37339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791320" y="3733920"/>
                <a:ext cx="54432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 flipV="1">
            <a:off x="1752480" y="3352320"/>
            <a:ext cx="6098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371600" y="2895480"/>
                <a:ext cx="4716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 flipV="1">
            <a:off x="2133720" y="4038120"/>
            <a:ext cx="6094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666880" y="4114800"/>
                <a:ext cx="325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 flipV="1">
            <a:off x="5334120" y="3276720"/>
            <a:ext cx="6094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257800" y="2666880"/>
                <a:ext cx="5302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 flipV="1">
            <a:off x="5791320" y="3962520"/>
            <a:ext cx="6094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248520" y="4038480"/>
                <a:ext cx="325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523880" y="4724280"/>
                <a:ext cx="45975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666880" y="5562720"/>
                <a:ext cx="18860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cover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9749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lphrg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295280" y="228600"/>
            <a:ext cx="6772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NOTES  OVER  RADICALS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113" name=""/>
          <p:cNvSpPr txBox="1"/>
          <p:nvPr/>
        </p:nvSpPr>
        <p:spPr>
          <a:xfrm rot="5400000">
            <a:off x="-2504880" y="3190680"/>
            <a:ext cx="6086520" cy="619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"/>
              </a:rPr>
              <a:t>solve</a:t>
            </a:r>
            <a:endParaRPr b="1" i="1" lang="en-US" sz="4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"/>
              <a:ea typeface="com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523880" y="1905120"/>
                <a:ext cx="593424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2209680" y="1752480"/>
            <a:ext cx="373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48520" y="1752480"/>
            <a:ext cx="3733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(  )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150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438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666880" y="3200400"/>
                <a:ext cx="29052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-5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181480" y="3505320"/>
                <a:ext cx="5968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791320" y="3200400"/>
                <a:ext cx="11937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438280" y="3962520"/>
                <a:ext cx="174312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257800" y="3962520"/>
                <a:ext cx="174312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2438280" y="4800600"/>
            <a:ext cx="5486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419720" y="4724280"/>
                <a:ext cx="8222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181480" y="4952880"/>
                <a:ext cx="5968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114800" y="4038480"/>
                <a:ext cx="147636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791320" y="4800600"/>
                <a:ext cx="92700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648320" y="5334120"/>
                <a:ext cx="384804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,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343400" y="1143000"/>
                <a:ext cx="137808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791320" y="1371600"/>
                <a:ext cx="5968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553080" y="1143000"/>
                <a:ext cx="121932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6324480" y="16002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10280" y="5334120"/>
            <a:ext cx="14479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010280" y="5257440"/>
            <a:ext cx="14479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523880" y="5334120"/>
                <a:ext cx="215748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1447920" y="5181480"/>
            <a:ext cx="2438280" cy="13716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781680" y="4038480"/>
                <a:ext cx="147636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  </m:t>
                    </m:r>
                  </m:oMath>
                </a14:m>
              </a:p>
            </p:txBody>
          </p:sp>
        </mc:Choice>
        <mc:Fallback/>
      </mc:AlternateContent>
    </p:spTree>
  </p:cSld>
  <p:transition>
    <p:cover dir="d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oorSla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oorSla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oorSla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oorSla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it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el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295280" y="228600"/>
            <a:ext cx="6772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NOTES  OVER  RADICALS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140" name=""/>
          <p:cNvSpPr txBox="1"/>
          <p:nvPr/>
        </p:nvSpPr>
        <p:spPr>
          <a:xfrm rot="5400000">
            <a:off x="-2504880" y="3190680"/>
            <a:ext cx="6086520" cy="619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"/>
              </a:rPr>
              <a:t>Solve</a:t>
            </a:r>
            <a:endParaRPr b="1" i="1" lang="en-US" sz="4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"/>
              <a:ea typeface="com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057400" y="990720"/>
                <a:ext cx="4718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286000" y="3352680"/>
                <a:ext cx="54288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819520" y="3276720"/>
                <a:ext cx="466884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657600" y="3429000"/>
                <a:ext cx="7621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495680" y="3352680"/>
                <a:ext cx="9986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2286000" y="411480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419720" y="4114800"/>
                <a:ext cx="5839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600200" y="5257800"/>
                <a:ext cx="5428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133720" y="5181480"/>
                <a:ext cx="32241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048120" y="5257800"/>
                <a:ext cx="8175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1371600" y="60199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71800" y="6095880"/>
                <a:ext cx="5842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486400" y="3352680"/>
                <a:ext cx="83196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172200" y="3352680"/>
                <a:ext cx="137952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791320" y="5410080"/>
                <a:ext cx="54288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324480" y="5334120"/>
                <a:ext cx="220680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162920" y="5410080"/>
                <a:ext cx="11109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5715000" y="617220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6629400" y="6095880"/>
                <a:ext cx="5842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733920" y="5257800"/>
                <a:ext cx="14652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133720" y="2057400"/>
                <a:ext cx="47178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cover dir="d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lphrg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8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ma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ma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ma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it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838080" y="1523880"/>
            <a:ext cx="75438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Jokerman"/>
              </a:rPr>
              <a:t>Book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Jokerman"/>
              </a:rPr>
              <a:t>pg. 662 #1-8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Jokerman"/>
              </a:rPr>
              <a:t>odd problem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  <p:sndAc>
      <p:stSnd>
        <p:snd r:embed="rId2" name="APPLAUSE.WAV"/>
      </p:stSnd>
    </p:sndAc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75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3600"/>
                            </p:stCondLst>
                            <p:childTnLst>
                              <p:par>
                                <p:cTn id="556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75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7425"/>
                            </p:stCondLst>
                            <p:childTnLst>
                              <p:par>
                                <p:cTn id="560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75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2T14:50:07Z</dcterms:created>
  <dc:creator>CCSS</dc:creator>
  <dc:description/>
  <dc:language>en-US</dc:language>
  <cp:lastModifiedBy>damon.skelton</cp:lastModifiedBy>
  <dcterms:modified xsi:type="dcterms:W3CDTF">2003-05-06T13:48:50Z</dcterms:modified>
  <cp:revision>9</cp:revision>
  <dc:subject/>
  <dc:title>No Slide Title</dc:title>
</cp:coreProperties>
</file>